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547D-B3EB-4CC6-98A7-2C68FC5C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90AF-3B63-48EC-ACE3-11468449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6063-D970-427B-89D7-37F32248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24E3-44DF-4760-97E8-CEB842998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6319-5669-459D-A08A-4B6DB557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5ECB-B19F-4C1A-B1E8-5138A895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F68A-B75F-400E-A1F5-BF3B45A0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6216-04C7-4D0D-937D-8046D636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2AF1-00FA-4174-8584-9742D8FB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D6D2-BA8B-4685-8D9E-32B16D1C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8CA5-414E-4787-9832-E1471ABA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9EFA-4B1E-4EEC-9DCA-463AB226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0069A3-5324-48B8-AFBF-C04C99B118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FD9AA2-D7AD-4A6F-A4DB-7F7383E0D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rcRect l="0" t="0" r="71544" b="0"/>
          <a:stretch/>
        </p:blipFill>
        <p:spPr>
          <a:xfrm>
            <a:off x="465120" y="23760"/>
            <a:ext cx="1843200" cy="382284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2308320" y="2332080"/>
            <a:ext cx="610236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 Eisen Liang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BS (UNSW Hons 1) FRCR (Lond) FRANZ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711360" y="4405320"/>
            <a:ext cx="3840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te 407, San Cli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dney Adventist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 Fox Valley R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hroonga NSW 20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: 1300 833 123      F: 948798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5005440" y="4606920"/>
            <a:ext cx="391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te 8, Lawton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Cecil Aven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le Hills, NSW 2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: 96803738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: 968033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4"/>
          <p:cNvGrpSpPr/>
          <p:nvPr/>
        </p:nvGrpSpPr>
        <p:grpSpPr>
          <a:xfrm>
            <a:off x="2308320" y="390600"/>
            <a:ext cx="5517360" cy="1191960"/>
            <a:chOff x="2308320" y="390600"/>
            <a:chExt cx="5517360" cy="1191960"/>
          </a:xfrm>
        </p:grpSpPr>
        <p:sp>
          <p:nvSpPr>
            <p:cNvPr id="46" name="TextBox 2"/>
            <p:cNvSpPr/>
            <p:nvPr/>
          </p:nvSpPr>
          <p:spPr>
            <a:xfrm>
              <a:off x="2308320" y="390600"/>
              <a:ext cx="2888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ydney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Box 9"/>
            <p:cNvSpPr/>
            <p:nvPr/>
          </p:nvSpPr>
          <p:spPr>
            <a:xfrm>
              <a:off x="5209560" y="513720"/>
              <a:ext cx="2616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terventional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iolog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Box 10"/>
          <p:cNvSpPr/>
          <p:nvPr/>
        </p:nvSpPr>
        <p:spPr>
          <a:xfrm>
            <a:off x="2430360" y="1592280"/>
            <a:ext cx="61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0 833 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rcRect l="0" t="0" r="71544" b="0"/>
          <a:stretch/>
        </p:blipFill>
        <p:spPr>
          <a:xfrm>
            <a:off x="531720" y="1082520"/>
            <a:ext cx="1641600" cy="34038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4"/>
          <p:cNvGrpSpPr/>
          <p:nvPr/>
        </p:nvGrpSpPr>
        <p:grpSpPr>
          <a:xfrm>
            <a:off x="2347920" y="1344600"/>
            <a:ext cx="5517360" cy="1191960"/>
            <a:chOff x="2347920" y="1344600"/>
            <a:chExt cx="5517360" cy="1191960"/>
          </a:xfrm>
        </p:grpSpPr>
        <p:sp>
          <p:nvSpPr>
            <p:cNvPr id="51" name="TextBox 2"/>
            <p:cNvSpPr/>
            <p:nvPr/>
          </p:nvSpPr>
          <p:spPr>
            <a:xfrm>
              <a:off x="2347920" y="1344600"/>
              <a:ext cx="2888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ydney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3"/>
            <p:cNvSpPr/>
            <p:nvPr/>
          </p:nvSpPr>
          <p:spPr>
            <a:xfrm>
              <a:off x="5249160" y="1467720"/>
              <a:ext cx="2616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terventional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iolog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Box 5"/>
          <p:cNvSpPr/>
          <p:nvPr/>
        </p:nvSpPr>
        <p:spPr>
          <a:xfrm>
            <a:off x="2173320" y="5442120"/>
            <a:ext cx="48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: “Tim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rcRect l="0" t="0" r="71544" b="0"/>
          <a:stretch/>
        </p:blipFill>
        <p:spPr>
          <a:xfrm>
            <a:off x="531720" y="1082520"/>
            <a:ext cx="1641600" cy="34038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2191320" y="1468440"/>
            <a:ext cx="3219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dney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ervention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i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2173320" y="5442120"/>
            <a:ext cx="48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SIR Color skeme.png"/>
          <p:cNvPicPr/>
          <p:nvPr/>
        </p:nvPicPr>
        <p:blipFill>
          <a:blip r:embed="rId1"/>
          <a:stretch/>
        </p:blipFill>
        <p:spPr>
          <a:xfrm>
            <a:off x="0" y="293760"/>
            <a:ext cx="914400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2T11:50:48Z</dcterms:created>
  <dc:creator>Eisen Liang</dc:creator>
  <dc:description/>
  <dc:language>en-US</dc:language>
  <cp:lastModifiedBy>Eisen Liang</cp:lastModifiedBy>
  <dcterms:modified xsi:type="dcterms:W3CDTF">2014-10-13T20:32:22Z</dcterms:modified>
  <cp:revision>7</cp:revision>
  <dc:subject/>
  <dc:title>Slide 1</dc:title>
</cp:coreProperties>
</file>